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142C-C18D-462A-87F3-0E6D32290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CC8D-6229-4DCB-B109-6C748BB09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C59A-E9EC-45E7-A101-2BB6CFBBA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100C-E719-409F-9981-C3EF75BA5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8818-3049-46CE-91BD-69C568225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E844-C6E0-46DA-92D7-3709AC561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039C-BC1D-4B95-963E-14BBCE2FB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C4A5-5D8A-4A4E-B169-E012863E4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B576-B871-4A7E-856A-63E4A7765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B593-AD7B-413D-9B5F-BB20DE1B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1FF4-26BC-4ABB-807B-E0938F5D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A9A0-3CE4-4A29-94E0-22603BD8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6052D-39B3-45E7-B96B-D5E5E16A9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Coastal bliss at Cabo San Juan, Parque Nacional Tayron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990720" y="990720"/>
            <a:ext cx="716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35760" y="17640"/>
            <a:ext cx="44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oudy Stout"/>
              </a:rPr>
              <a:t>Mis Vacaciones De Verano En Colombi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3399ff"/>
                </a:solidFill>
                <a:latin typeface="Comic Sans MS"/>
              </a:rPr>
              <a:t>El Primero Di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Arial"/>
              </a:rPr>
              <a:t>Hoy hace mucho calor ! El sol brilla en el cielo. No hace frio. Fui  a la playa hoy, y nade en el mar.  El aqua estaba fria. Fui a comer en un </a:t>
            </a:r>
            <a:r>
              <a:rPr b="0" lang="es-ES" sz="2800" spc="-1" strike="noStrike">
                <a:solidFill>
                  <a:srgbClr val="0099ff"/>
                </a:solidFill>
                <a:latin typeface="Arial"/>
              </a:rPr>
              <a:t>restaurante muy grande. Yo fui con mis amigo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Coastal bliss at Cabo San Juan, Parque Nacional Tayrona"/>
          <p:cNvPicPr/>
          <p:nvPr/>
        </p:nvPicPr>
        <p:blipFill>
          <a:blip r:embed="rId2"/>
          <a:stretch/>
        </p:blipFill>
        <p:spPr>
          <a:xfrm>
            <a:off x="4495680" y="1523880"/>
            <a:ext cx="4419720" cy="45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9999"/>
                </a:solidFill>
                <a:latin typeface="Forte"/>
              </a:rPr>
              <a:t>Dia Dos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Forte"/>
              </a:rPr>
              <a:t>Hoy hace fresco, no hay mucho calor pero no hace frio. Fuimos a jugar tenis en la playa, y ganamos ! Jugamos con la familia Lima. Golpee la pelota por encima de la r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72000" y="1600200"/>
            <a:ext cx="441972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ff"/>
                </a:solidFill>
                <a:latin typeface="Forte"/>
              </a:rPr>
              <a:t>Dia Tr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9966ff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ff"/>
                </a:solidFill>
                <a:latin typeface="Forte"/>
              </a:rPr>
              <a:t>Hoy fui a la teinda de ropa, y compre un traje de baño. Después yo fui  a bucear en el mar.  Mire los peces. Hoy hace mucho calor, no hace fresco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4038480" cy="2479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4648320" y="3886200"/>
            <a:ext cx="403848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ff"/>
                </a:solidFill>
                <a:latin typeface="Bradley Hand ITC"/>
              </a:rPr>
              <a:t>Dia cuatro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Bradley Hand ITC"/>
              </a:rPr>
              <a:t>Hoy hace fresco y el sol no brilla , pero no hace frio.  Hoy fuiamos a la piscina en el hotel. Y jugamos tenis en la cancha de tenis. jugamos dob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724280" y="1523880"/>
            <a:ext cx="396252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8T14:06:36Z</dcterms:created>
  <dc:creator>leaolum</dc:creator>
  <dc:description/>
  <dc:language>en-US</dc:language>
  <cp:lastModifiedBy>leaolum</cp:lastModifiedBy>
  <dcterms:modified xsi:type="dcterms:W3CDTF">2011-11-29T15:13:52Z</dcterms:modified>
  <cp:revision>4</cp:revision>
  <dc:subject/>
  <dc:title>mis vacaciones de verano!</dc:title>
</cp:coreProperties>
</file>